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jpeg" ContentType="image/jpeg"/>
  <Override PartName="/ppt/media/image23.jpeg" ContentType="image/jpeg"/>
  <Override PartName="/ppt/media/image22.png" ContentType="image/png"/>
  <Override PartName="/ppt/media/image5.png" ContentType="image/png"/>
  <Override PartName="/ppt/media/image21.png" ContentType="image/png"/>
  <Override PartName="/ppt/media/image20.wmf" ContentType="image/x-wmf"/>
  <Override PartName="/ppt/media/image26.jpeg" ContentType="image/jpeg"/>
  <Override PartName="/ppt/media/image18.png" ContentType="image/png"/>
  <Override PartName="/ppt/media/image17.png" ContentType="image/png"/>
  <Override PartName="/ppt/media/image10.png" ContentType="image/png"/>
  <Override PartName="/ppt/media/image27.jpeg" ContentType="image/jpeg"/>
  <Override PartName="/ppt/media/image16.jpeg" ContentType="image/jpeg"/>
  <Override PartName="/ppt/media/image24.jpeg" ContentType="image/jpeg"/>
  <Override PartName="/ppt/media/image1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0EB4-1D51-4E1A-9CFE-64DE7D9D7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5C76-59B6-40EA-95B2-40F72DDD2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D80E-3050-48EB-B2DB-0EF04F161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8DAD-FB53-442B-9D7E-348B915C7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87099-BA5E-44B5-BDAE-840B1B19D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46BA3-3150-4104-92F7-613FD6AF3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85C4A-1B29-4A1D-834E-7F83A62E1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33B6B-E6CF-4D7D-AA54-7C89FDEC7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9129D-47D5-4C64-80BA-C771FD477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B1E40-D6AE-4C03-B2EB-1F111010D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373E8-70BB-4935-AD19-BC6014320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D8FA-3349-43E0-9B78-6308EC198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3CC3D-61C4-4020-8425-EA0007E9B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D603C-ED7F-4CA5-97E8-51C1E32A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2D7C4-E0D2-426C-8645-0A60D5B74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C26B6-FD10-4832-8B7B-66D34B8C6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47ACC-639A-4009-BC47-AC576734E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3EAA2-6FD3-4107-972F-CBB38B678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E91CA-9474-4F5A-816F-219D477BF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D2E84-D421-4E3B-BBAF-540FF76C6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A5D8F-0660-4171-90CC-83C7C8D9C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F73EA-DCAB-4B2C-9BF3-9149F415E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CC2C-5AD4-44D1-BFCF-7BBDF0B40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48597-E146-4A95-843A-65CD291F5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F3071-72C2-4480-A2C9-66C268D32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45626-DE83-4E0E-B3B1-9388D168F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1FEC8-D61E-4778-972E-1EAE0C2C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2FC6C-20AF-4196-A3DA-85A9CC440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7DA77-CF09-4474-9139-5A6D138F7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92F97-5C8F-43A9-86EB-E682615FB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512B8-567E-45B1-B016-86BD39EE2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61CBA-5A0B-4F68-A2C4-BCC6DF908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2E2BD-B90F-4F49-B392-60D24EC05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B64C-2C77-472D-8AC4-C0EE25621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E3531-E209-4CD1-83E6-832412A06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86EC9-54AB-49EA-8C4B-3E570FEFE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A43B4-FBBF-4307-BDD2-CD360CD11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0FA49-6084-4BE2-801C-D998B58D0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7212D-B493-4108-8F78-62C74E51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CCC37-64CF-412E-934D-F5103B4C1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5743F-9AA3-4775-8145-3A7FCA9C7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91493-DAE7-4631-AF03-F5CB642F4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013E7-A214-4064-B5E7-EA473929B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9E59-A6A3-4F45-8D4D-EE1CA0BDC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A2EA-D6E2-400A-8F9A-71202BC81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4CB9-3EF1-42A3-9528-8107D2D31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5C60-D4A0-4843-B281-A4F7753E7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C7DD-E1AB-479D-A86B-455715C7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6A7CD-2DA6-41BA-BD7F-2DE8AC971F1E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BAD29-2468-46AD-86B1-93D1FDF32C25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70F4C-F324-4942-9121-DCD6318BEE10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5C14E-BE93-4486-BA19-D3C239E3B863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Объект 6" descr=""/>
          <p:cNvPicPr/>
          <p:nvPr/>
        </p:nvPicPr>
        <p:blipFill>
          <a:blip r:embed="rId2"/>
          <a:stretch/>
        </p:blipFill>
        <p:spPr>
          <a:xfrm>
            <a:off x="4322880" y="0"/>
            <a:ext cx="4267080" cy="7974000"/>
          </a:xfrm>
          <a:prstGeom prst="rect">
            <a:avLst/>
          </a:prstGeom>
          <a:ln w="0">
            <a:noFill/>
          </a:ln>
        </p:spPr>
      </p:pic>
      <p:pic>
        <p:nvPicPr>
          <p:cNvPr id="215" name="Заголовок 3" descr=""/>
          <p:cNvPicPr/>
          <p:nvPr/>
        </p:nvPicPr>
        <p:blipFill>
          <a:blip r:embed="rId3"/>
          <a:stretch/>
        </p:blipFill>
        <p:spPr>
          <a:xfrm>
            <a:off x="725400" y="3932280"/>
            <a:ext cx="6381720" cy="1828800"/>
          </a:xfrm>
          <a:prstGeom prst="rect">
            <a:avLst/>
          </a:prstGeom>
          <a:ln w="0">
            <a:noFill/>
          </a:ln>
        </p:spPr>
      </p:pic>
      <p:pic>
        <p:nvPicPr>
          <p:cNvPr id="216" name="Объект 7" descr=""/>
          <p:cNvPicPr/>
          <p:nvPr/>
        </p:nvPicPr>
        <p:blipFill>
          <a:blip r:embed="rId4"/>
          <a:stretch/>
        </p:blipFill>
        <p:spPr>
          <a:xfrm>
            <a:off x="826920" y="1052640"/>
            <a:ext cx="280836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2" name="Содержимое 3" descr="265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Содержимое 3" descr="2654.jpg"/>
          <p:cNvPicPr/>
          <p:nvPr/>
        </p:nvPicPr>
        <p:blipFill>
          <a:blip r:embed="rId2"/>
          <a:stretch/>
        </p:blipFill>
        <p:spPr>
          <a:xfrm>
            <a:off x="2143080" y="0"/>
            <a:ext cx="5000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Box 1"/>
          <p:cNvSpPr/>
          <p:nvPr/>
        </p:nvSpPr>
        <p:spPr>
          <a:xfrm>
            <a:off x="755640" y="1413000"/>
            <a:ext cx="81486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rebuchet MS"/>
              </a:rPr>
              <a:t>Советы для работающих в группах: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-Не соревнуемся, а сотрудничаем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-Командиров нет!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-Ответственность несут все!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-Работаем с удовольствием, дружно!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Box 2"/>
          <p:cNvSpPr/>
          <p:nvPr/>
        </p:nvSpPr>
        <p:spPr>
          <a:xfrm>
            <a:off x="468360" y="1484280"/>
            <a:ext cx="835164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i="1" lang="ru-RU" sz="4400" spc="-1" strike="noStrike">
                <a:solidFill>
                  <a:srgbClr val="000000"/>
                </a:solidFill>
                <a:latin typeface="Trebuchet MS"/>
              </a:rPr>
              <a:t>Схема алгоритма.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Начало(смешиваем воды с краской)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Выбор фон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Рисование натюрморта в технике пуантилизм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Передача объема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Экспресс - выставка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Box 1"/>
          <p:cNvSpPr/>
          <p:nvPr/>
        </p:nvSpPr>
        <p:spPr>
          <a:xfrm>
            <a:off x="1332000" y="333360"/>
            <a:ext cx="648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73c65"/>
                </a:solidFill>
                <a:latin typeface="Trebuchet MS"/>
              </a:rPr>
              <a:t>Физкультминутка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Заголовок 1" descr=""/>
          <p:cNvPicPr/>
          <p:nvPr/>
        </p:nvPicPr>
        <p:blipFill>
          <a:blip r:embed="rId2"/>
          <a:stretch/>
        </p:blipFill>
        <p:spPr>
          <a:xfrm>
            <a:off x="1262160" y="4211640"/>
            <a:ext cx="7046640" cy="2176560"/>
          </a:xfrm>
          <a:prstGeom prst="rect">
            <a:avLst/>
          </a:prstGeom>
          <a:ln w="0">
            <a:noFill/>
          </a:ln>
        </p:spPr>
      </p:pic>
      <p:pic>
        <p:nvPicPr>
          <p:cNvPr id="218" name="Объект 3" descr=""/>
          <p:cNvPicPr/>
          <p:nvPr/>
        </p:nvPicPr>
        <p:blipFill>
          <a:blip r:embed="rId3"/>
          <a:stretch/>
        </p:blipFill>
        <p:spPr>
          <a:xfrm>
            <a:off x="2027160" y="404640"/>
            <a:ext cx="4848480" cy="38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Прямоугольник 4" descr=""/>
          <p:cNvPicPr/>
          <p:nvPr/>
        </p:nvPicPr>
        <p:blipFill>
          <a:blip r:embed="rId2"/>
          <a:stretch/>
        </p:blipFill>
        <p:spPr>
          <a:xfrm>
            <a:off x="2000160" y="189000"/>
            <a:ext cx="4181400" cy="1414440"/>
          </a:xfrm>
          <a:prstGeom prst="rect">
            <a:avLst/>
          </a:prstGeom>
          <a:ln w="0">
            <a:noFill/>
          </a:ln>
        </p:spPr>
      </p:pic>
      <p:sp>
        <p:nvSpPr>
          <p:cNvPr id="220" name="TextBox 5"/>
          <p:cNvSpPr/>
          <p:nvPr/>
        </p:nvSpPr>
        <p:spPr>
          <a:xfrm>
            <a:off x="1288080" y="1484280"/>
            <a:ext cx="8169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1306a"/>
                </a:solidFill>
                <a:latin typeface="Trebuchet MS"/>
              </a:rPr>
              <a:t>Если видишь на картине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1306a"/>
                </a:solidFill>
                <a:latin typeface="Trebuchet MS"/>
              </a:rPr>
              <a:t>Чашку кофе на столе,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1306a"/>
                </a:solidFill>
                <a:latin typeface="Trebuchet MS"/>
              </a:rPr>
              <a:t>Или квас в большом кувшине,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1306a"/>
                </a:solidFill>
                <a:latin typeface="Trebuchet MS"/>
              </a:rPr>
              <a:t>Или вазу в хрустале,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1306a"/>
                </a:solidFill>
                <a:latin typeface="Trebuchet MS"/>
              </a:rPr>
              <a:t>Или бронзовую вазу, или грушу, или торт,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1306a"/>
                </a:solidFill>
                <a:latin typeface="Trebuchet MS"/>
              </a:rPr>
              <a:t>Или все предметы сразу,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1306a"/>
                </a:solidFill>
                <a:latin typeface="Trebuchet MS"/>
              </a:rPr>
              <a:t>Знай, что это ……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I:\И.Ф.Хруцкий\588249.jpg"/>
          <p:cNvPicPr/>
          <p:nvPr/>
        </p:nvPicPr>
        <p:blipFill>
          <a:blip r:embed="rId2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2"/>
          <a:stretch/>
        </p:blipFill>
        <p:spPr>
          <a:xfrm>
            <a:off x="1792440" y="4157640"/>
            <a:ext cx="6516360" cy="13590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K023_1"/>
          <p:cNvPicPr/>
          <p:nvPr/>
        </p:nvPicPr>
        <p:blipFill>
          <a:blip r:embed="rId3"/>
          <a:stretch/>
        </p:blipFill>
        <p:spPr>
          <a:xfrm>
            <a:off x="395280" y="476280"/>
            <a:ext cx="4094280" cy="34574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1" descr="SFR21_6"/>
          <p:cNvPicPr/>
          <p:nvPr/>
        </p:nvPicPr>
        <p:blipFill>
          <a:blip r:embed="rId4"/>
          <a:stretch/>
        </p:blipFill>
        <p:spPr>
          <a:xfrm>
            <a:off x="4645080" y="476280"/>
            <a:ext cx="417492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" nodeType="afterEffect" fill="hold" presetClass="entr" presetID="18" presetSubtype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E06279"/>
          <p:cNvPicPr/>
          <p:nvPr/>
        </p:nvPicPr>
        <p:blipFill>
          <a:blip r:embed="rId2"/>
          <a:stretch/>
        </p:blipFill>
        <p:spPr>
          <a:xfrm>
            <a:off x="324000" y="2421000"/>
            <a:ext cx="3251160" cy="371952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3"/>
          <p:cNvSpPr/>
          <p:nvPr/>
        </p:nvSpPr>
        <p:spPr>
          <a:xfrm>
            <a:off x="900000" y="981000"/>
            <a:ext cx="100800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И       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Line 4"/>
          <p:cNvSpPr/>
          <p:nvPr/>
        </p:nvSpPr>
        <p:spPr>
          <a:xfrm>
            <a:off x="1187280" y="1773360"/>
            <a:ext cx="505080" cy="79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1979640" y="1268280"/>
            <a:ext cx="15112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rebuchet MS"/>
              </a:rPr>
              <a:t>,,,</a:t>
            </a:r>
            <a:endParaRPr b="0" lang="en-US" sz="9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3492360" y="3645000"/>
            <a:ext cx="158436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Trebuchet MS"/>
              </a:rPr>
              <a:t>ТИ</a:t>
            </a:r>
            <a:endParaRPr b="0" lang="en-US" sz="8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0" name="Picture 7" descr="0_7a9a2_e7934735_XL"/>
          <p:cNvPicPr/>
          <p:nvPr/>
        </p:nvPicPr>
        <p:blipFill>
          <a:blip r:embed="rId3">
            <a:lum contrast="30000"/>
          </a:blip>
          <a:stretch/>
        </p:blipFill>
        <p:spPr>
          <a:xfrm>
            <a:off x="4356000" y="2276640"/>
            <a:ext cx="3240360" cy="321444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8"/>
          <p:cNvSpPr/>
          <p:nvPr/>
        </p:nvSpPr>
        <p:spPr>
          <a:xfrm>
            <a:off x="7380360" y="3645000"/>
            <a:ext cx="158436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Trebuchet MS"/>
              </a:rPr>
              <a:t>ЗМ</a:t>
            </a:r>
            <a:endParaRPr b="0" lang="en-US" sz="8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Rectangle 9"/>
          <p:cNvSpPr/>
          <p:nvPr/>
        </p:nvSpPr>
        <p:spPr>
          <a:xfrm>
            <a:off x="6156360" y="1413000"/>
            <a:ext cx="1511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rebuchet MS"/>
              </a:rPr>
              <a:t>,,</a:t>
            </a:r>
            <a:endParaRPr b="0" lang="en-US" sz="9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Rectangle 10"/>
          <p:cNvSpPr/>
          <p:nvPr/>
        </p:nvSpPr>
        <p:spPr>
          <a:xfrm>
            <a:off x="611280" y="-243000"/>
            <a:ext cx="792000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10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10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0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3" descr=""/>
          <p:cNvPicPr/>
          <p:nvPr/>
        </p:nvPicPr>
        <p:blipFill>
          <a:blip r:embed="rId2"/>
          <a:stretch/>
        </p:blipFill>
        <p:spPr>
          <a:xfrm>
            <a:off x="560520" y="189000"/>
            <a:ext cx="3914640" cy="15001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468000" y="1700280"/>
            <a:ext cx="3995640" cy="39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ёра был очень оригинальным теоретиком и, несмотря на раннюю смерть, успел создать новое направление в живописи, сразу же завоевавшее популярность и признание. Сёра считается родоначальником неоимпрессионизма, или пуантилизма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6" name="Объект 6" descr="Жорж Сёра"/>
          <p:cNvPicPr/>
          <p:nvPr/>
        </p:nvPicPr>
        <p:blipFill>
          <a:blip r:embed="rId3"/>
          <a:stretch/>
        </p:blipFill>
        <p:spPr>
          <a:xfrm>
            <a:off x="4643280" y="765000"/>
            <a:ext cx="40323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Содержимое 3" descr="Жорж Сёра &quot;Сена в Курбевуа&quot;"/>
          <p:cNvPicPr/>
          <p:nvPr/>
        </p:nvPicPr>
        <p:blipFill>
          <a:blip r:embed="rId2"/>
          <a:stretch/>
        </p:blipFill>
        <p:spPr>
          <a:xfrm>
            <a:off x="2268360" y="260280"/>
            <a:ext cx="6494760" cy="6292800"/>
          </a:xfrm>
          <a:prstGeom prst="rect">
            <a:avLst/>
          </a:prstGeom>
          <a:ln w="0">
            <a:noFill/>
          </a:ln>
        </p:spPr>
      </p:pic>
      <p:sp>
        <p:nvSpPr>
          <p:cNvPr id="238" name="TextBox 5"/>
          <p:cNvSpPr/>
          <p:nvPr/>
        </p:nvSpPr>
        <p:spPr>
          <a:xfrm>
            <a:off x="250920" y="1628640"/>
            <a:ext cx="23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Сена в Курбевуа".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85-1886 гг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Содержимое 3" descr="Жорж-Пьер Сёра. Эйфелева башня"/>
          <p:cNvPicPr/>
          <p:nvPr/>
        </p:nvPicPr>
        <p:blipFill>
          <a:blip r:embed="rId2"/>
          <a:stretch/>
        </p:blipFill>
        <p:spPr>
          <a:xfrm>
            <a:off x="611280" y="189000"/>
            <a:ext cx="4465440" cy="6440400"/>
          </a:xfrm>
          <a:prstGeom prst="rect">
            <a:avLst/>
          </a:prstGeom>
          <a:ln w="0">
            <a:noFill/>
          </a:ln>
        </p:spPr>
      </p:pic>
      <p:sp>
        <p:nvSpPr>
          <p:cNvPr id="240" name="TextBox 2"/>
          <p:cNvSpPr/>
          <p:nvPr/>
        </p:nvSpPr>
        <p:spPr>
          <a:xfrm>
            <a:off x="5651640" y="5805360"/>
            <a:ext cx="30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Эйфелева башня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1889 год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31T22:02:42Z</dcterms:created>
  <dc:creator>User</dc:creator>
  <dc:description/>
  <dc:language>en-US</dc:language>
  <cp:lastModifiedBy>Валентина</cp:lastModifiedBy>
  <dcterms:modified xsi:type="dcterms:W3CDTF">2013-12-12T08:54:22Z</dcterms:modified>
  <cp:revision>15</cp:revision>
  <dc:subject/>
  <dc:title>Разновидностей натюрморта по эмоциональной окраске может быть множество: героический, торжественный, интимный, бытовой, иронический, грустный, праздничный, камерный, созерцательный. А «тематическое» содержание натюрморта определяется в основном целью постановки, набором основных «персонажей». </dc:title>
</cp:coreProperties>
</file>